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7B24-61AC-4161-AD4C-76E9E232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F98F-513E-4A30-A5F3-FBC34C63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CB8C-A685-40D5-A6EF-0BCA780B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C56A-A68A-4758-B0C8-A70D40FA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B53A-A16E-49B4-8E73-1ADFDBAF7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850C-03ED-42F1-84B2-75DE8C17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B483-C22B-4280-BF1F-E3B27F02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5A1E-5D33-487A-B1D9-3466C266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7E43-53C9-4EF8-9787-7F05477F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8728-BE47-4D1D-BAA5-D3B81DB0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DD1F-3830-4C75-AAD4-A83EE504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5226-D77D-40E7-BE3B-A90F4AB7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BFEC-979B-43C9-B7D9-1A5A11E6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53AF-2A71-4460-9285-B6A0E117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E3AB-5153-4B5C-B3B5-52C7CFAF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72FD-457B-485F-BFAD-2271A0E9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F1F5-2EF6-4FA0-915C-342C5BB4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C329-01CB-4194-9255-71929590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45E4-0D26-4EF6-B113-1CE8B611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104E-04EB-44B0-AC23-61FF5C61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A204-67A1-43C1-B6BE-7A964BB5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4F80-9922-4D4E-B817-81D1C5FD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C67E-9D4F-475A-B19E-3B5BE50C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81D9-CA13-452F-A46E-A6449278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33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7994-8970-47AD-9A93-E38ACD9A8BB4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560" y="63360"/>
              <a:ext cx="3623400" cy="6129000"/>
              <a:chOff x="5407560" y="63360"/>
              <a:chExt cx="3623400" cy="61290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840"/>
                <a:ext cx="2115360" cy="2357280"/>
              </a:xfrm>
              <a:custGeom>
                <a:avLst/>
                <a:gdLst>
                  <a:gd name="textAreaLeft" fmla="*/ 0 w 2115360"/>
                  <a:gd name="textAreaRight" fmla="*/ 2115720 w 211536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61280"/>
                <a:ext cx="906120" cy="84312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360 h 843120"/>
                  <a:gd name="textAreaBottom" fmla="*/ 843840 h 84312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34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360"/>
                <a:ext cx="388800" cy="55116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51160"/>
                  <a:gd name="textAreaBottom" fmla="*/ 551160 h 55116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720" y="2644560"/>
                <a:ext cx="163440" cy="33192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1320" y="1241640"/>
                <a:ext cx="190080" cy="14292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4160" y="293040"/>
              <a:ext cx="889200" cy="834120"/>
              <a:chOff x="5654160" y="293040"/>
              <a:chExt cx="889200" cy="83412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760" y="7966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280" y="4762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3560" y="39348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0840" y="5253480"/>
              <a:ext cx="1062720" cy="834840"/>
              <a:chOff x="960840" y="5253480"/>
              <a:chExt cx="1062720" cy="8348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760" y="5522040"/>
                <a:ext cx="250920" cy="30024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9800" y="5733360"/>
                <a:ext cx="429480" cy="24912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200" y="537804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3D6F-CA3C-4AD1-A72A-12B899A138BA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Работа выполнена в рамках проекта «Повышение квалификации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различных категорий работников образования и формирования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у них базовой педагогической ИКТ-компетентости» по программе</a:t>
            </a:r>
            <a:br>
              <a:rPr sz="1600"/>
            </a:br>
            <a:r>
              <a:rPr b="0" lang="ru-RU" sz="1600" spc="-1" strike="noStrike">
                <a:solidFill>
                  <a:srgbClr val="006666"/>
                </a:solidFill>
                <a:latin typeface="Verdana"/>
              </a:rPr>
              <a:t>«Информационные технологии в деятельности учителя-предметника»</a:t>
            </a:r>
            <a:endParaRPr b="0" lang="en-US" sz="1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Picture 5" descr="logo_phpBB"/>
          <p:cNvPicPr/>
          <p:nvPr/>
        </p:nvPicPr>
        <p:blipFill>
          <a:blip r:embed="rId2"/>
          <a:stretch/>
        </p:blipFill>
        <p:spPr>
          <a:xfrm>
            <a:off x="7885080" y="404640"/>
            <a:ext cx="934920" cy="881280"/>
          </a:xfrm>
          <a:prstGeom prst="rect">
            <a:avLst/>
          </a:prstGeom>
          <a:ln w="0">
            <a:noFill/>
          </a:ln>
        </p:spPr>
      </p:pic>
      <p:sp>
        <p:nvSpPr>
          <p:cNvPr id="169" name="WordArt 6"/>
          <p:cNvSpPr txBox="1"/>
          <p:nvPr/>
        </p:nvSpPr>
        <p:spPr>
          <a:xfrm>
            <a:off x="2124000" y="1989000"/>
            <a:ext cx="4305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атематика-5 класс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971640" y="2997360"/>
            <a:ext cx="475272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Автор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Аннотация к выпускной работ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Тематическое планировани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Урок: Геометрические тел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План урок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Ресурс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963360" y="48117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Скругленный прямоугольник 8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716000" y="549000"/>
            <a:ext cx="397044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ъем прямоугольного параллелепипед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=a·b·c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=3c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см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·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с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V=24c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м</a:t>
            </a:r>
            <a:r>
              <a:rPr b="0" lang="ru-RU" sz="3200" spc="-1" strike="noStrike" baseline="30000">
                <a:solidFill>
                  <a:srgbClr val="006699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324000" y="1989000"/>
            <a:ext cx="3671640" cy="4248360"/>
          </a:xfrm>
          <a:prstGeom prst="cube">
            <a:avLst>
              <a:gd name="adj" fmla="val 250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Line 5"/>
          <p:cNvSpPr/>
          <p:nvPr/>
        </p:nvSpPr>
        <p:spPr>
          <a:xfrm flipV="1">
            <a:off x="1258920" y="1988640"/>
            <a:ext cx="79200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Line 6"/>
          <p:cNvSpPr/>
          <p:nvPr/>
        </p:nvSpPr>
        <p:spPr>
          <a:xfrm flipV="1">
            <a:off x="2124000" y="1988640"/>
            <a:ext cx="79236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Line 7"/>
          <p:cNvSpPr/>
          <p:nvPr/>
        </p:nvSpPr>
        <p:spPr>
          <a:xfrm>
            <a:off x="755640" y="2421000"/>
            <a:ext cx="280836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Line 8"/>
          <p:cNvSpPr/>
          <p:nvPr/>
        </p:nvSpPr>
        <p:spPr>
          <a:xfrm>
            <a:off x="1258920" y="2852640"/>
            <a:ext cx="0" cy="345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Line 9"/>
          <p:cNvSpPr/>
          <p:nvPr/>
        </p:nvSpPr>
        <p:spPr>
          <a:xfrm>
            <a:off x="2124000" y="2852640"/>
            <a:ext cx="0" cy="345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324000" y="3645000"/>
            <a:ext cx="2808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Line 11"/>
          <p:cNvSpPr/>
          <p:nvPr/>
        </p:nvSpPr>
        <p:spPr>
          <a:xfrm>
            <a:off x="324000" y="4437000"/>
            <a:ext cx="2808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Line 12"/>
          <p:cNvSpPr/>
          <p:nvPr/>
        </p:nvSpPr>
        <p:spPr>
          <a:xfrm>
            <a:off x="324000" y="5445000"/>
            <a:ext cx="273528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Line 13"/>
          <p:cNvSpPr/>
          <p:nvPr/>
        </p:nvSpPr>
        <p:spPr>
          <a:xfrm flipV="1">
            <a:off x="3132000" y="2781000"/>
            <a:ext cx="86364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Line 14"/>
          <p:cNvSpPr/>
          <p:nvPr/>
        </p:nvSpPr>
        <p:spPr>
          <a:xfrm flipV="1">
            <a:off x="3059280" y="3573360"/>
            <a:ext cx="936360" cy="9352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Line 15"/>
          <p:cNvSpPr/>
          <p:nvPr/>
        </p:nvSpPr>
        <p:spPr>
          <a:xfrm flipV="1">
            <a:off x="3132000" y="4508280"/>
            <a:ext cx="863640" cy="8636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Line 16"/>
          <p:cNvSpPr/>
          <p:nvPr/>
        </p:nvSpPr>
        <p:spPr>
          <a:xfrm>
            <a:off x="3564000" y="2421000"/>
            <a:ext cx="0" cy="34560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971640" y="63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а=3с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Text Box 26"/>
          <p:cNvSpPr/>
          <p:nvPr/>
        </p:nvSpPr>
        <p:spPr>
          <a:xfrm>
            <a:off x="3722040" y="567684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b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=2с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Text Box 32"/>
          <p:cNvSpPr/>
          <p:nvPr/>
        </p:nvSpPr>
        <p:spPr>
          <a:xfrm>
            <a:off x="3995640" y="3213000"/>
            <a:ext cx="18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Text Box 35"/>
          <p:cNvSpPr/>
          <p:nvPr/>
        </p:nvSpPr>
        <p:spPr>
          <a:xfrm>
            <a:off x="4091040" y="394812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=4с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Rectangle 37"/>
          <p:cNvSpPr/>
          <p:nvPr/>
        </p:nvSpPr>
        <p:spPr>
          <a:xfrm>
            <a:off x="6237000" y="472428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ес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28000" cy="17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тог урока –</a:t>
            </a: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-анализ тес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47" name="Picture 5" descr="02"/>
          <p:cNvPicPr/>
          <p:nvPr/>
        </p:nvPicPr>
        <p:blipFill>
          <a:blip r:embed="rId1"/>
          <a:stretch/>
        </p:blipFill>
        <p:spPr>
          <a:xfrm>
            <a:off x="1258920" y="1700280"/>
            <a:ext cx="7129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Аннотация к выпускной  работе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-8317440" y="1413000"/>
            <a:ext cx="171370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лайды к разработанному уроку могут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быть использованы при объяснении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нового материала по теме «геометрически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тела» 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187280" y="11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5640" y="1125360"/>
            <a:ext cx="777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Слайды к разработанному уроку могут бы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спользованы для объяснения нового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атериала по теме «геометрические тела» в 5 класс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зависимости от формы урока слайды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ожно использовать выборочно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Эти же слайды можно применя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а уроках стереометрии в 10 и 11 классах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ест к уроку можно использоват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10 классе в теме «Многогранники»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качестве инструментальных средств для подготовки к уроку были использованы компьютерные программы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icrosoft Power Point, Microsoft Word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icrosoft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ffice Picture Manager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Ресурсы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чебник «Математика» (5кл.), авт. Зубарева, Мордкович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http://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artavaleha.com/uploads/posts/1167778609_konus_07.jpg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http://paint.dn.ua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/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21964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Об автор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71640" y="2708280"/>
            <a:ext cx="7488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Я, Бурухина Наталия Александровна, работаю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учительницей математик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и экономики в школе №11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Стаж работы – 35 лет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ысшая категори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«Отличник народного просвещения.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5" name="Picture 4" descr="IMG_4618"/>
          <p:cNvPicPr/>
          <p:nvPr/>
        </p:nvPicPr>
        <p:blipFill>
          <a:blip r:embed="rId1"/>
          <a:stretch/>
        </p:blipFill>
        <p:spPr>
          <a:xfrm>
            <a:off x="5724360" y="0"/>
            <a:ext cx="3708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рограмм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атуральные числ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Обыкновенные дроб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Геометрические фигур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есятичные дроби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cc00ff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ff"/>
                </a:solidFill>
                <a:latin typeface="Verdana"/>
              </a:rPr>
              <a:t>Геометрические тела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812880" indent="-81288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ведение в вероятнос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Геометрические тела </a:t>
            </a: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(7 уроков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848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-ый урок: «Геометрические тела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Цель: познакомить учащихся с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классификацией геометрически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тел и подробнее – с прямоугольны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араллелепипедом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лан уро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964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796320" indent="-796320">
              <a:spcBef>
                <a:spcPts val="799"/>
              </a:spcBef>
              <a:buClr>
                <a:srgbClr val="0066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Лекция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)предмет стереометрии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)классификация геометрических тел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)прямоугольный параллелепипед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его развертка ;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)объем прямоугольного параллелепипед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796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I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.Тест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94920" y="404280"/>
            <a:ext cx="84978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ела, поверхность которых состоит из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многоугольников, называются </a:t>
            </a:r>
            <a:r>
              <a:rPr b="0" lang="ru-RU" sz="2800" spc="-1" strike="noStrike">
                <a:solidFill>
                  <a:srgbClr val="cc00ff"/>
                </a:solidFill>
                <a:latin typeface="Verdana"/>
              </a:rPr>
              <a:t>многогранниками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Например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900000" y="5516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ирамид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Text Box 14"/>
          <p:cNvSpPr/>
          <p:nvPr/>
        </p:nvSpPr>
        <p:spPr>
          <a:xfrm flipH="1">
            <a:off x="6011280" y="5516640"/>
            <a:ext cx="27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рямоугольны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араллелепипед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5" name="Picture 15" descr=""/>
          <p:cNvPicPr/>
          <p:nvPr/>
        </p:nvPicPr>
        <p:blipFill>
          <a:blip r:embed="rId1"/>
          <a:stretch/>
        </p:blipFill>
        <p:spPr>
          <a:xfrm>
            <a:off x="420840" y="2349360"/>
            <a:ext cx="2179440" cy="3167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8" descr=""/>
          <p:cNvPicPr/>
          <p:nvPr/>
        </p:nvPicPr>
        <p:blipFill>
          <a:blip r:embed="rId2"/>
          <a:stretch/>
        </p:blipFill>
        <p:spPr>
          <a:xfrm>
            <a:off x="2916360" y="2421000"/>
            <a:ext cx="2128680" cy="3384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3"/>
          <p:cNvSpPr/>
          <p:nvPr/>
        </p:nvSpPr>
        <p:spPr>
          <a:xfrm>
            <a:off x="3276720" y="5516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ризм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Picture 19" descr=""/>
          <p:cNvPicPr/>
          <p:nvPr/>
        </p:nvPicPr>
        <p:blipFill>
          <a:blip r:embed="rId3"/>
          <a:stretch/>
        </p:blipFill>
        <p:spPr>
          <a:xfrm>
            <a:off x="5724360" y="2492280"/>
            <a:ext cx="1800360" cy="3049560"/>
          </a:xfrm>
          <a:prstGeom prst="rect">
            <a:avLst/>
          </a:prstGeom>
          <a:ln w="0">
            <a:noFill/>
          </a:ln>
        </p:spPr>
      </p:pic>
    </p:spTree>
  </p:cSld>
  <p:transition advTm="1000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44000" cy="109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Тела, ограниченные не только плоскими</a:t>
            </a:r>
            <a:br>
              <a:rPr sz="2400"/>
            </a:b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верхностями, называются круглыми телами.</a:t>
            </a:r>
            <a:br>
              <a:rPr sz="2400"/>
            </a:b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Например: 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0" name="Picture 4" descr="DSC00448"/>
          <p:cNvPicPr/>
          <p:nvPr/>
        </p:nvPicPr>
        <p:blipFill>
          <a:blip r:embed="rId1"/>
          <a:stretch/>
        </p:blipFill>
        <p:spPr>
          <a:xfrm>
            <a:off x="250920" y="1989000"/>
            <a:ext cx="1763640" cy="181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987792"/>
          <p:cNvPicPr/>
          <p:nvPr/>
        </p:nvPicPr>
        <p:blipFill>
          <a:blip r:embed="rId2"/>
          <a:stretch/>
        </p:blipFill>
        <p:spPr>
          <a:xfrm>
            <a:off x="6156360" y="2060640"/>
            <a:ext cx="2665440" cy="17715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1"/>
          <p:cNvSpPr/>
          <p:nvPr/>
        </p:nvSpPr>
        <p:spPr>
          <a:xfrm>
            <a:off x="468360" y="4076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цилинд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3564000" y="4149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кону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6948360" y="4076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ша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5" name="Picture 15" descr="1167778609_konus_07"/>
          <p:cNvPicPr/>
          <p:nvPr/>
        </p:nvPicPr>
        <p:blipFill>
          <a:blip r:embed="rId3"/>
          <a:stretch/>
        </p:blipFill>
        <p:spPr>
          <a:xfrm>
            <a:off x="3059280" y="1844640"/>
            <a:ext cx="2232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В окружающей обстановке многие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едметы имеют форму прямоугольного параллелепипед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7" name="Picture 4" descr="13"/>
          <p:cNvPicPr/>
          <p:nvPr/>
        </p:nvPicPr>
        <p:blipFill>
          <a:blip r:embed="rId1"/>
          <a:stretch/>
        </p:blipFill>
        <p:spPr>
          <a:xfrm>
            <a:off x="826920" y="299736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8"/>
          <p:cNvSpPr/>
          <p:nvPr/>
        </p:nvSpPr>
        <p:spPr>
          <a:xfrm>
            <a:off x="5796000" y="285264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ff"/>
                </a:solidFill>
                <a:latin typeface="Verdana"/>
              </a:rPr>
              <a:t>ребр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5796000" y="3500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ширин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5867280" y="42926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ысот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5940360" y="5013360"/>
            <a:ext cx="8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длин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6659640" y="3789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Line 24"/>
          <p:cNvSpPr/>
          <p:nvPr/>
        </p:nvSpPr>
        <p:spPr>
          <a:xfrm flipH="1">
            <a:off x="3419640" y="3645000"/>
            <a:ext cx="223200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Line 25"/>
          <p:cNvSpPr/>
          <p:nvPr/>
        </p:nvSpPr>
        <p:spPr>
          <a:xfrm flipH="1">
            <a:off x="3924360" y="4508640"/>
            <a:ext cx="180000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Line 26"/>
          <p:cNvSpPr/>
          <p:nvPr/>
        </p:nvSpPr>
        <p:spPr>
          <a:xfrm flipH="1">
            <a:off x="2268360" y="5229360"/>
            <a:ext cx="3456000" cy="21564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AutoShape 27"/>
          <p:cNvSpPr/>
          <p:nvPr/>
        </p:nvSpPr>
        <p:spPr>
          <a:xfrm>
            <a:off x="6804000" y="3500280"/>
            <a:ext cx="360360" cy="2016360"/>
          </a:xfrm>
          <a:custGeom>
            <a:avLst/>
            <a:gdLst>
              <a:gd name="textAreaLeft" fmla="*/ 0 w 360360"/>
              <a:gd name="textAreaRight" fmla="*/ 129960 w 36036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Text Box 28"/>
          <p:cNvSpPr/>
          <p:nvPr/>
        </p:nvSpPr>
        <p:spPr>
          <a:xfrm>
            <a:off x="7308720" y="429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измерени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Text Box 30"/>
          <p:cNvSpPr/>
          <p:nvPr/>
        </p:nvSpPr>
        <p:spPr>
          <a:xfrm>
            <a:off x="1372680" y="443700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гран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Line 31"/>
          <p:cNvSpPr/>
          <p:nvPr/>
        </p:nvSpPr>
        <p:spPr>
          <a:xfrm flipV="1">
            <a:off x="900000" y="5444640"/>
            <a:ext cx="358920" cy="50508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Line 32"/>
          <p:cNvSpPr/>
          <p:nvPr/>
        </p:nvSpPr>
        <p:spPr>
          <a:xfrm flipV="1">
            <a:off x="900000" y="3715920"/>
            <a:ext cx="358920" cy="230508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708480" y="59500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вершин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ак этим насекомым найти сам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ороткий путь друг к другу по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верхности тела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AutoShape 7"/>
          <p:cNvSpPr/>
          <p:nvPr/>
        </p:nvSpPr>
        <p:spPr>
          <a:xfrm>
            <a:off x="324000" y="2276640"/>
            <a:ext cx="2303280" cy="1726920"/>
          </a:xfrm>
          <a:prstGeom prst="cube">
            <a:avLst>
              <a:gd name="adj" fmla="val 25000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  <a:effectLst>
            <a:outerShdw dist="107932" dir="135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AutoShape 8"/>
          <p:cNvSpPr/>
          <p:nvPr/>
        </p:nvSpPr>
        <p:spPr>
          <a:xfrm>
            <a:off x="179280" y="2565360"/>
            <a:ext cx="287280" cy="2890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AutoShape 9"/>
          <p:cNvSpPr/>
          <p:nvPr/>
        </p:nvSpPr>
        <p:spPr>
          <a:xfrm>
            <a:off x="2484360" y="3429000"/>
            <a:ext cx="287280" cy="216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2266920" y="414972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4138560" y="4149720"/>
            <a:ext cx="1008000" cy="12952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5146560" y="414972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7020000" y="4149720"/>
            <a:ext cx="1008000" cy="12952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5146560" y="285264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Rectangle 18"/>
          <p:cNvSpPr/>
          <p:nvPr/>
        </p:nvSpPr>
        <p:spPr>
          <a:xfrm>
            <a:off x="5148360" y="5445000"/>
            <a:ext cx="1871640" cy="12970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AutoShape 19"/>
          <p:cNvSpPr/>
          <p:nvPr/>
        </p:nvSpPr>
        <p:spPr>
          <a:xfrm>
            <a:off x="2124000" y="4076640"/>
            <a:ext cx="287280" cy="2890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5003640" y="5300640"/>
            <a:ext cx="287640" cy="2890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Line 22"/>
          <p:cNvSpPr/>
          <p:nvPr/>
        </p:nvSpPr>
        <p:spPr>
          <a:xfrm>
            <a:off x="2268360" y="4221000"/>
            <a:ext cx="2808360" cy="1152720"/>
          </a:xfrm>
          <a:prstGeom prst="line">
            <a:avLst/>
          </a:prstGeom>
          <a:ln w="2844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Rectangle 23"/>
          <p:cNvSpPr/>
          <p:nvPr/>
        </p:nvSpPr>
        <p:spPr>
          <a:xfrm>
            <a:off x="4643280" y="1557360"/>
            <a:ext cx="3792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Эта фигура называетс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разверткой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Text Box 26"/>
          <p:cNvSpPr/>
          <p:nvPr/>
        </p:nvSpPr>
        <p:spPr>
          <a:xfrm>
            <a:off x="611280" y="55897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Этот путь – самый короткий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2T06:42:17Z</dcterms:created>
  <dc:creator>web</dc:creator>
  <dc:description/>
  <dc:language>en-US</dc:language>
  <cp:lastModifiedBy>Owner</cp:lastModifiedBy>
  <dcterms:modified xsi:type="dcterms:W3CDTF">2011-06-13T14:45:41Z</dcterms:modified>
  <cp:revision>34</cp:revision>
  <dc:subject/>
  <dc:title>Слайд 1</dc:title>
</cp:coreProperties>
</file>